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32-C6EB-4B70-A091-0CFE4D73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D09-58FC-410B-BE2F-3F43FDB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A6A-177B-4C7F-8117-67E67EDA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5B1-9391-454E-BD5D-42D7775A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D1E-F656-469C-816D-F252357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3F7-34EA-49CB-8F37-E829C4C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3BA-1671-4B1F-890A-B999EE8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7B9-FA59-42B4-86B2-42B4426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110-5172-4054-AFA9-280449D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BC0-E3D3-455E-999C-3FEBBFD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1F6-987F-47BD-A432-8136167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9AD-6881-4BD4-B3A1-0EB7F8A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22C-3D13-4DAA-A34D-90A75227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2 Micro E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ele Klassen feh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tibility J2ME to J2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187020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ClassLoader, Double, Float, Thread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Arrays, Collections, GregorianCalendar, Hash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tx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aw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rmi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swing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49568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lets basieren auf javax.microedition.midlet.MI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 manager communicates with Midlets through speci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let - Life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066680"/>
            <a:ext cx="3124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36232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4114800"/>
            <a:ext cx="3124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ed -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411480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ed - not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99" idx="3"/>
          </p:cNvCxnSpPr>
          <p:nvPr/>
        </p:nvCxnSpPr>
        <p:spPr>
          <a:xfrm>
            <a:off x="6019920" y="1486080"/>
            <a:ext cx="216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9" idx="1"/>
            <a:endCxn id="98" idx="1"/>
          </p:cNvCxnSpPr>
          <p:nvPr/>
        </p:nvCxnSpPr>
        <p:spPr>
          <a:xfrm flipH="1" rot="10800000">
            <a:off x="2894400" y="1485360"/>
            <a:ext cx="252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1" idx="0"/>
            <a:endCxn id="99" idx="2"/>
          </p:cNvCxnSpPr>
          <p:nvPr/>
        </p:nvCxnSpPr>
        <p:spPr>
          <a:xfrm flipV="1">
            <a:off x="2857320" y="3200040"/>
            <a:ext cx="160092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9" idx="2"/>
            <a:endCxn id="100" idx="0"/>
          </p:cNvCxnSpPr>
          <p:nvPr/>
        </p:nvCxnSpPr>
        <p:spPr>
          <a:xfrm>
            <a:off x="4457520" y="3200400"/>
            <a:ext cx="15246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838080" y="579132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e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791320"/>
            <a:ext cx="3124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0"/>
            <a:endCxn id="101" idx="2"/>
          </p:cNvCxnSpPr>
          <p:nvPr/>
        </p:nvCxnSpPr>
        <p:spPr>
          <a:xfrm flipV="1">
            <a:off x="2400480" y="4952160"/>
            <a:ext cx="4579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0" idx="2"/>
            <a:endCxn id="107" idx="0"/>
          </p:cNvCxnSpPr>
          <p:nvPr/>
        </p:nvCxnSpPr>
        <p:spPr>
          <a:xfrm>
            <a:off x="5981760" y="4952520"/>
            <a:ext cx="4579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mun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manager zu Mi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se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let zu application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P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/ Kommunik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/ Displ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s / Kommun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84400"/>
            <a:ext cx="8474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HelloWorldMidlet extends 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HelloWorldMidlet() {//not requi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artAp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useAp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stroyApp(boole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/ Display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Displa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isplay displ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= Display.getDisplay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Displayable 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orm fmM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 = new Form(„HelloWorld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a Displayable 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.setCurrent(fmMa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Handling - Com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s Command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elloWorldMidlet extends MIDlet implements Command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Comman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Command cm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Exit = new Command(„Exit“, Command.SCREEN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Command Object to displa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.addCommand(cmExi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CommandListener to displa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.setCommandListener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240" y="5181480"/>
            <a:ext cx="63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commandAction(Command c, Displayable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c == cmExit) {doSomething;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wicklungsumgeb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2ME Wireless Toolkit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Builder 5 mit JBuilder Mobil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ool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066680"/>
          <a:ext cx="853452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53452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80880" y="45720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walten der 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ätzlicher Texteditor wird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/ run on E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bau J2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bau eines Mid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wicklungsumge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er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Builder Mobil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ezu vollständige Entwicklungsumge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n auf einem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sches erstellen einfacher Midlets oder displayabl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t defin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he air (O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ittstellenk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21240" y="1066680"/>
          <a:ext cx="4622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1066680"/>
                    <a:ext cx="4622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once, run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füg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big vernetz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inge Performance (1662 / 147 4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Darstel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uere Netzanbin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in Konkurrenz zu Desktop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mit vielen Benutzereingaben, z.B. Text, Cursorbewegungen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mit hohem Grafikant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Pro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ele (stand alone oder verteil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ktionsumfang des Handies erwei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Banking [Fun Communica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enh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S Versand [Brodos AG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ene Pun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y mit J2SE / Personal Java (JDK 1.1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ant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sche Prob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Zeitungsartike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Übersicht Java Edi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981080"/>
            <a:ext cx="121932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666880"/>
            <a:ext cx="12193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657600"/>
            <a:ext cx="1219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952880"/>
            <a:ext cx="2819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4952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k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295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129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2440" y="1295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Virtual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 bis 70 KByte Spe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bis 40 KByte Dynamischen Spe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bit Prozessor mit 25 M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gab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iles =&gt; machin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ing and free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 man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ed Limited Device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8 KBytes Speicher (für CLDC und K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KBytes dynamischer Speicher für run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 - Anforde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6 x 54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ype of user inpu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 KBytes of non-volatile memory, 8 KBytes for data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KBytes of volatile memory to ru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network connectif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must provide scheduling, exception handling, processing of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bitmap graphics to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input and pass the data to the K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nd write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the network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 -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172200"/>
            <a:ext cx="7696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nformation Device [Hardwa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057400"/>
            <a:ext cx="236196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876920"/>
            <a:ext cx="5181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3505320"/>
            <a:ext cx="281916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429000"/>
            <a:ext cx="990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1066680"/>
            <a:ext cx="2133720" cy="3733920"/>
            <a:chOff x="685800" y="1066680"/>
            <a:chExt cx="2133720" cy="3733920"/>
          </a:xfrm>
        </p:grpSpPr>
        <p:sp>
          <p:nvSpPr>
            <p:cNvPr id="80" name=""/>
            <p:cNvSpPr/>
            <p:nvPr/>
          </p:nvSpPr>
          <p:spPr>
            <a:xfrm>
              <a:off x="685800" y="3429000"/>
              <a:ext cx="11430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1066680"/>
              <a:ext cx="2133720" cy="236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2286000"/>
            <a:ext cx="9907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362320"/>
            <a:ext cx="19047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066680"/>
            <a:ext cx="29718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M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106668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tibility J2ME to J2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2ME (CLDC und MIDP) haben viele Klassen über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187020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Class, Object, String, StringBuffer,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Boolean, Byte, Character, Integer, Long,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Enumeration, Hashtable, Vector, Date, 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io.Writer, Reader, DataOutput, InputStream,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nige Klassen sind neu hinzug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9568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io.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lcdui.Alert, Form, Display,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midlet.MID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rms.Record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8:47:33Z</dcterms:created>
  <dc:creator>HhPh</dc:creator>
  <dc:description/>
  <dc:language>en-US</dc:language>
  <cp:lastModifiedBy>HUPO</cp:lastModifiedBy>
  <dcterms:modified xsi:type="dcterms:W3CDTF">2003-01-09T14:55:10Z</dcterms:modified>
  <cp:revision>99</cp:revision>
  <dc:subject/>
  <dc:title>Java 2 Micro Edition</dc:title>
</cp:coreProperties>
</file>